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6C3E5-D26D-4501-B258-167E270CD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5CBC1-49AD-4B04-ACE0-9141302B1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5F7EE-53BC-4345-AB62-EE7E82D7A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C8B97-DEB7-4F88-9E82-88C9036E7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E8EA6-DCAB-4D22-B97A-F76E2CFFC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5003A-69F4-43CC-9C06-8A67E33D1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150C4-D238-4855-B298-9AB7CC190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551D4-565D-42E7-8EAD-6C758FFF5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85A99-3124-4289-B67F-235AD9A7E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CB66A-9DE4-4573-AA47-8565E6968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1BDD4-E4FE-4C82-AA00-7CAF8319C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F5D78-57E5-4B94-9DAD-54B62E94C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E0A2A-A44D-4876-9A78-A6FE2F7B0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CE64A-EE67-47A3-B001-4BA42E0DB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3C200-E90D-4933-83FA-AA6CF3382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E4DE4-5F76-475D-AECE-0ACE4934E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B56E4-8F06-4A75-AC16-8FBC6543B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51C70-621D-4D8E-A2BF-00CB03E4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0384B-E820-4542-9208-7157070EA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4B3C3-9DCA-48C6-A13B-20E1E19D1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B40F7-8FD0-4E0F-94F6-48447F076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CFAA6-1024-423C-8C19-A43538BEB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FBE6-4DB1-4790-B2A9-D79016F73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2F41B-EBE7-4231-AC36-F7AD376B0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Constantia"/>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Constantia"/>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Constantia"/>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Constantia"/>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BAA9-FF32-4569-8672-092440D15E3A}" type="slidenum">
              <a:rPr b="0" lang="ru-RU" sz="1400" spc="-1" strike="noStrike">
                <a:solidFill>
                  <a:srgbClr val="ffffff"/>
                </a:solidFill>
                <a:latin typeface="Arial"/>
              </a:rPr>
              <a:t>&lt;number&gt;</a:t>
            </a:fld>
            <a:endParaRPr b="0" lang="en-US" sz="1400" spc="-1" strike="noStrike">
              <a:solidFill>
                <a:srgbClr val="000000"/>
              </a:solidFill>
              <a:latin typeface="Constantia"/>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Constantia"/>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Constantia"/>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Constantia"/>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Constantia"/>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71ED-212A-4BC4-85F2-C55383390F0B}" type="slidenum">
              <a:rPr b="0" lang="ru-RU" sz="1400" spc="-1" strike="noStrike">
                <a:solidFill>
                  <a:srgbClr val="ffffff"/>
                </a:solidFill>
                <a:latin typeface="Arial"/>
              </a:rPr>
              <a:t>&lt;number&gt;</a:t>
            </a:fld>
            <a:endParaRPr b="0" lang="en-US" sz="14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
          <p:cNvSpPr txBox="1"/>
          <p:nvPr/>
        </p:nvSpPr>
        <p:spPr>
          <a:xfrm>
            <a:off x="539280" y="1267920"/>
            <a:ext cx="8007480" cy="4095720"/>
          </a:xfrm>
          <a:prstGeom prst="rect">
            <a:avLst/>
          </a:prstGeom>
          <a:noFill/>
          <a:ln w="0">
            <a:noFill/>
          </a:ln>
        </p:spPr>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66"/>
                </a:solidFill>
                <a:latin typeface="Times New Roman"/>
              </a:rPr>
              <a:t>Қазақстан Республикасының мемлекеттік стандарттары</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
          <p:cNvSpPr txBox="1"/>
          <p:nvPr/>
        </p:nvSpPr>
        <p:spPr>
          <a:xfrm>
            <a:off x="250560" y="1412640"/>
            <a:ext cx="8677080" cy="4319640"/>
          </a:xfrm>
          <a:prstGeom prst="rect">
            <a:avLst/>
          </a:prstGeom>
          <a:noFill/>
          <a:ln w="0">
            <a:noFill/>
          </a:ln>
        </p:spPr>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200" spc="-1" strike="noStrike">
                <a:solidFill>
                  <a:srgbClr val="ffffff"/>
                </a:solidFill>
                <a:latin typeface="Times New Roman"/>
              </a:rPr>
              <a:t>Стандарттарды жасауды ұйымдастыру мен жоспарлау кезінде ұйымдастыру-әдістемелік бірдейлілікке жету мақсатында және стандарттарды жасау бойынша жұмыстарды орындауды бақылау мен талдау үшін келесі стандарттарды жасаудың алты кезеңге бөлед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
          <p:cNvSpPr txBox="1"/>
          <p:nvPr/>
        </p:nvSpPr>
        <p:spPr>
          <a:xfrm>
            <a:off x="-360" y="0"/>
            <a:ext cx="8893080" cy="6858000"/>
          </a:xfrm>
          <a:prstGeom prst="rect">
            <a:avLst/>
          </a:prstGeom>
          <a:noFill/>
          <a:ln w="0">
            <a:noFill/>
          </a:ln>
        </p:spPr>
        <p:txBody>
          <a:bodyPr lIns="90000" rIns="90000" tIns="46800" bIns="46800" anchor="t">
            <a:normAutofit/>
          </a:bodyPr>
          <a:p>
            <a:pPr marL="343080" indent="2052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20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Times New Roman"/>
              </a:rPr>
              <a:t>1 кезең</a:t>
            </a:r>
            <a:r>
              <a:rPr b="1" lang="ru-RU" sz="3200" spc="-1" strike="noStrike">
                <a:solidFill>
                  <a:srgbClr val="ffffff"/>
                </a:solidFill>
                <a:latin typeface="Times New Roman"/>
              </a:rPr>
              <a:t> - стандартты жасауды ұйымдастыру және техникалық тапсырманы құру;</a:t>
            </a:r>
            <a:endParaRPr b="0" lang="en-US" sz="3200" spc="-1" strike="noStrike">
              <a:solidFill>
                <a:srgbClr val="ffffff"/>
              </a:solidFill>
              <a:latin typeface="Arial"/>
            </a:endParaRPr>
          </a:p>
          <a:p>
            <a:pPr marL="343080" indent="20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Times New Roman"/>
              </a:rPr>
              <a:t>2 кезең</a:t>
            </a:r>
            <a:r>
              <a:rPr b="1" lang="ru-RU" sz="3200" spc="-1" strike="noStrike">
                <a:solidFill>
                  <a:srgbClr val="ffffff"/>
                </a:solidFill>
                <a:latin typeface="Times New Roman"/>
              </a:rPr>
              <a:t> - стандарт жобасын жасау және оны сын-пікірге тарату;</a:t>
            </a:r>
            <a:endParaRPr b="0" lang="en-US" sz="3200" spc="-1" strike="noStrike">
              <a:solidFill>
                <a:srgbClr val="ffffff"/>
              </a:solidFill>
              <a:latin typeface="Arial"/>
            </a:endParaRPr>
          </a:p>
          <a:p>
            <a:pPr marL="343080" indent="20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Times New Roman"/>
              </a:rPr>
              <a:t>3 кезең</a:t>
            </a:r>
            <a:r>
              <a:rPr b="1" lang="ru-RU" sz="3200" spc="-1" strike="noStrike">
                <a:solidFill>
                  <a:srgbClr val="ffffff"/>
                </a:solidFill>
                <a:latin typeface="Times New Roman"/>
              </a:rPr>
              <a:t> - сын-пікірді өңдеу, стандарт жобасының соңғы редакциясын жасау;</a:t>
            </a:r>
            <a:endParaRPr b="0" lang="en-US" sz="3200" spc="-1" strike="noStrike">
              <a:solidFill>
                <a:srgbClr val="ffffff"/>
              </a:solidFill>
              <a:latin typeface="Arial"/>
            </a:endParaRPr>
          </a:p>
          <a:p>
            <a:pPr marL="343080" indent="20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Times New Roman"/>
              </a:rPr>
              <a:t>4 кезең</a:t>
            </a:r>
            <a:r>
              <a:rPr b="1" lang="ru-RU" sz="3200" spc="-1" strike="noStrike">
                <a:solidFill>
                  <a:srgbClr val="ffffff"/>
                </a:solidFill>
                <a:latin typeface="Times New Roman"/>
              </a:rPr>
              <a:t> - стандарт жобасын дайындау, келісу және бееітуге жіберу;</a:t>
            </a:r>
            <a:endParaRPr b="0" lang="en-US" sz="3200" spc="-1" strike="noStrike">
              <a:solidFill>
                <a:srgbClr val="ffffff"/>
              </a:solidFill>
              <a:latin typeface="Arial"/>
            </a:endParaRPr>
          </a:p>
          <a:p>
            <a:pPr marL="343080" indent="20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Times New Roman"/>
              </a:rPr>
              <a:t>5 кезең</a:t>
            </a:r>
            <a:r>
              <a:rPr b="1" lang="ru-RU" sz="3200" spc="-1" strike="noStrike">
                <a:solidFill>
                  <a:srgbClr val="ffffff"/>
                </a:solidFill>
                <a:latin typeface="Times New Roman"/>
              </a:rPr>
              <a:t> - стандарт жобасын қарау, оны бекіту және тіркеу;</a:t>
            </a:r>
            <a:endParaRPr b="0" lang="en-US" sz="3200" spc="-1" strike="noStrike">
              <a:solidFill>
                <a:srgbClr val="ffffff"/>
              </a:solidFill>
              <a:latin typeface="Arial"/>
            </a:endParaRPr>
          </a:p>
          <a:p>
            <a:pPr marL="343080" indent="20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66"/>
                </a:solidFill>
                <a:latin typeface="Times New Roman"/>
              </a:rPr>
              <a:t>6 кезең</a:t>
            </a:r>
            <a:r>
              <a:rPr b="1" lang="ru-RU" sz="3200" spc="-1" strike="noStrike">
                <a:solidFill>
                  <a:srgbClr val="ffffff"/>
                </a:solidFill>
                <a:latin typeface="Times New Roman"/>
              </a:rPr>
              <a:t> - стандартты басып шығар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
          <p:cNvSpPr txBox="1"/>
          <p:nvPr/>
        </p:nvSpPr>
        <p:spPr>
          <a:xfrm>
            <a:off x="250560" y="404280"/>
            <a:ext cx="8677080" cy="57610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Бекітілген жоспарға сәйкес стандарт жобасын жасаушы ұйым басшысы әрбір тақырып бойынша басшылар мен жауапты орындаушыларды тағайындауы  және жұмысты орындау мерзімін анықтау керек. </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Стандарт жобасын бірнеше ұйым жасаған кезде, жетекші жасаушы-ұйым (орындаушылар тізіміндегі бірінші) әрбір орындаушымен келісу арқылы жұмысты орындаудың көлемі мен мерзімін анықтауы тиіс.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
          <p:cNvSpPr txBox="1"/>
          <p:nvPr/>
        </p:nvSpPr>
        <p:spPr>
          <a:xfrm>
            <a:off x="250560" y="549000"/>
            <a:ext cx="8605800" cy="5543640"/>
          </a:xfrm>
          <a:prstGeom prst="rect">
            <a:avLst/>
          </a:prstGeom>
          <a:noFill/>
          <a:ln w="0">
            <a:noFill/>
          </a:ln>
        </p:spPr>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kk-KZ" sz="3200" spc="-1" strike="noStrike">
                <a:solidFill>
                  <a:srgbClr val="ffffff"/>
                </a:solidFill>
                <a:latin typeface="Times New Roman"/>
              </a:rPr>
              <a:t>Жетекші ұйым стандарт жобасының уақытылы жасалуына, ал ізденуші-ұйым өздеріне жүктелген жұмыс көлемдерінің уақытылы орындалуына жауапты болады. </a:t>
            </a:r>
            <a:r>
              <a:rPr b="1" lang="ru-RU" sz="3200" spc="-1" strike="noStrike">
                <a:solidFill>
                  <a:srgbClr val="ffffff"/>
                </a:solidFill>
                <a:latin typeface="Times New Roman"/>
              </a:rPr>
              <a:t>Техникалық тапсырманың жасау үшін отандық және шетелдік ғылым мен техниканың жетістіктерінің стандартталынатын объектіге қатысты материалдарды жинап, оқып және талдау қажет. </a:t>
            </a:r>
            <a:endParaRPr b="0" lang="en-US" sz="3200" spc="-1" strike="noStrike">
              <a:solidFill>
                <a:srgbClr val="ffffff"/>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
          <p:cNvSpPr txBox="1"/>
          <p:nvPr/>
        </p:nvSpPr>
        <p:spPr>
          <a:xfrm>
            <a:off x="318960" y="549000"/>
            <a:ext cx="8501040" cy="6119640"/>
          </a:xfrm>
          <a:prstGeom prst="rect">
            <a:avLst/>
          </a:prstGeom>
          <a:noFill/>
          <a:ln w="0">
            <a:noFill/>
          </a:ln>
        </p:spPr>
        <p:txBody>
          <a:bodyPr lIns="90000" rIns="90000" tIns="46800" bIns="4680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Егерде стандартталынатын объект өнім болса, онда осы немесе осыған ұқсас өнімді шығаратын кәсіпорындардың тәжірибелерін, оны тұтынушылармен қолдану шарттарын, қолдану туралы мәліметтерді және оған деген қажеттілікті зерттеу қажет.</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Техникалық тапсырманың жобасымен қатар стандартты жасауға құрылады:</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тандарт жобасы сын-пікірге таратылатын ұйымдар тізімі;</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стандарт жобасының соңғы редакциясы келісілуі тиіс ұйымдар тізімі.</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txBox="1"/>
          <p:nvPr/>
        </p:nvSpPr>
        <p:spPr>
          <a:xfrm>
            <a:off x="250560" y="1268280"/>
            <a:ext cx="8605800" cy="3889440"/>
          </a:xfrm>
          <a:prstGeom prst="rect">
            <a:avLst/>
          </a:prstGeom>
          <a:noFill/>
          <a:ln w="0">
            <a:noFill/>
          </a:ln>
        </p:spPr>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kk-KZ" sz="3200" spc="-1" strike="noStrike">
                <a:solidFill>
                  <a:srgbClr val="ffffff"/>
                </a:solidFill>
                <a:latin typeface="Times New Roman"/>
              </a:rPr>
              <a:t>Егер де стандарт жобасын жасау кезінде әрекеттегі өзара байланысты стандарттарды өзгерту немесе тоқтату қажеттігі болса, онда жасаушы-ұйым стандарт жобасын жасаумен қатар сәйкес стандарттарға өзгертулер енгізу немесе осы стандарттарды тоқтату туралы дәлелді ұсыныстар дайындау қажет.</a:t>
            </a:r>
            <a:r>
              <a:rPr b="1" lang="ru-RU"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
          <p:cNvSpPr txBox="1"/>
          <p:nvPr/>
        </p:nvSpPr>
        <p:spPr>
          <a:xfrm>
            <a:off x="250560" y="260280"/>
            <a:ext cx="8677080" cy="6337440"/>
          </a:xfrm>
          <a:prstGeom prst="rect">
            <a:avLst/>
          </a:prstGeom>
          <a:noFill/>
          <a:ln w="0">
            <a:noFill/>
          </a:ln>
        </p:spPr>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200" spc="-1" strike="noStrike">
                <a:solidFill>
                  <a:srgbClr val="ffffff"/>
                </a:solidFill>
                <a:latin typeface="Times New Roman"/>
              </a:rPr>
              <a:t>Өзара байланысты стандарттарды өзгерту туралы ұсыныстар мемлекеттік стандартты бекітетін стандарттау, метрология және сертификаттау жөніндегі комитетке және стандарттау жөніндегі техникалық комитетке немесе осы бекітілген ұйымға жіберілуі тиіс. Стандарт жобасын бекітуге жіберуге дейін жасаушы-ұйым, өзара байланысты сәйкес ұйымдардан өзара байланысты стандарттарға өзгеріс енгізу туралы немесе оларды тоқтату туралы ұсыныстар бойынша қорытындыны алу керек.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
          <p:cNvSpPr txBox="1"/>
          <p:nvPr/>
        </p:nvSpPr>
        <p:spPr>
          <a:xfrm>
            <a:off x="324000" y="620640"/>
            <a:ext cx="8496000" cy="5400720"/>
          </a:xfrm>
          <a:prstGeom prst="rect">
            <a:avLst/>
          </a:prstGeom>
          <a:noFill/>
          <a:ln w="0">
            <a:noFill/>
          </a:ln>
        </p:spPr>
        <p:txBody>
          <a:bodyPr lIns="90000" rIns="90000" tIns="46800" bIns="46800"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kk-KZ" sz="3200" spc="-1" strike="noStrike">
                <a:solidFill>
                  <a:srgbClr val="ffffff"/>
                </a:solidFill>
                <a:latin typeface="Times New Roman"/>
              </a:rPr>
              <a:t>Стандарт жобасын жасаумен қатар түсіндірме жазбасын және стандарттың уақытлы енгізілуін қамтамасыз ететін негізгі шаралар жоспарының жобасын құру қажет.</a:t>
            </a:r>
            <a:r>
              <a:rPr b="1" lang="ru-RU" sz="3200" spc="-1" strike="noStrike">
                <a:solidFill>
                  <a:srgbClr val="ffffff"/>
                </a:solidFill>
                <a:latin typeface="Times New Roman"/>
              </a:rPr>
              <a:t> Стандарт жобасына және стандартты енгізу бойынша негізгі шаралар жоспарының жобасына стандарт жобасын жасаушы ұйымның басшысы, жасаудың басшысы, оны орындаушылар және ізденуші-ұйымның басшылары және орындаушылары қол қоюы қажет.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
          <p:cNvSpPr txBox="1"/>
          <p:nvPr/>
        </p:nvSpPr>
        <p:spPr>
          <a:xfrm>
            <a:off x="324000" y="1484280"/>
            <a:ext cx="8496000" cy="388800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тандарт жобасы және қосымша құжаттар техникалық тапсырмамен орнатылған ұйымдар тізімі бойынша сын-пікірге және келісуге жіберіледі. Мемлекеттік стандарттың жобасы стандарттау, метрология және сертификаттау жөніндегі комитетке үш данада жіберіледі.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
          <p:cNvSpPr txBox="1"/>
          <p:nvPr/>
        </p:nvSpPr>
        <p:spPr>
          <a:xfrm>
            <a:off x="-360" y="1483920"/>
            <a:ext cx="8893080" cy="5364360"/>
          </a:xfrm>
          <a:prstGeom prst="rect">
            <a:avLst/>
          </a:prstGeom>
          <a:noFill/>
          <a:ln w="0">
            <a:noFill/>
          </a:ln>
        </p:spPr>
        <p:txBody>
          <a:bodyPr lIns="90000" rIns="90000" tIns="46800" bIns="46800" anchor="t">
            <a:normAutofit/>
          </a:bodyPr>
          <a:p>
            <a:pPr marL="343080" indent="-343080" algn="just">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сын-пікір мен келісуге таратылған және бекітуге жіберілген стандарт жобасының түсіндірме жазбалары;</a:t>
            </a:r>
            <a:endParaRPr b="0" lang="en-US" sz="2600" spc="-1" strike="noStrike">
              <a:solidFill>
                <a:srgbClr val="ffffff"/>
              </a:solidFill>
              <a:latin typeface="Arial"/>
            </a:endParaRPr>
          </a:p>
          <a:p>
            <a:pPr marL="343080" indent="-343080" algn="just">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сын-пікір мәліметтері;</a:t>
            </a:r>
            <a:endParaRPr b="0" lang="en-US" sz="2600" spc="-1" strike="noStrike">
              <a:solidFill>
                <a:srgbClr val="ffffff"/>
              </a:solidFill>
              <a:latin typeface="Arial"/>
            </a:endParaRPr>
          </a:p>
          <a:p>
            <a:pPr marL="343080" indent="-343080" algn="just">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стандартты жасауға арналған техникалық тапсырманың көшірмесі;</a:t>
            </a:r>
            <a:endParaRPr b="0" lang="en-US" sz="2600" spc="-1" strike="noStrike">
              <a:solidFill>
                <a:srgbClr val="ffffff"/>
              </a:solidFill>
              <a:latin typeface="Arial"/>
            </a:endParaRPr>
          </a:p>
          <a:p>
            <a:pPr marL="343080" indent="-343080" algn="just">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сын-пікір мен келісуге таратылған стандарт жобаларының қосымша хаттармен көшірмесі;</a:t>
            </a:r>
            <a:endParaRPr b="0" lang="en-US" sz="2600" spc="-1" strike="noStrike">
              <a:solidFill>
                <a:srgbClr val="ffffff"/>
              </a:solidFill>
              <a:latin typeface="Arial"/>
            </a:endParaRPr>
          </a:p>
          <a:p>
            <a:pPr marL="343080" indent="-343080" algn="just">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сын пікір және жобаға келісуін растайтын түпнұсқалық даналары;</a:t>
            </a:r>
            <a:endParaRPr b="0" lang="en-US" sz="2600" spc="-1" strike="noStrike">
              <a:solidFill>
                <a:srgbClr val="ffffff"/>
              </a:solidFill>
              <a:latin typeface="Arial"/>
            </a:endParaRPr>
          </a:p>
          <a:p>
            <a:pPr marL="343080" indent="-343080" algn="just">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стандарт жобасы сын-пікірге таратылған ұйымдар тізімі;</a:t>
            </a:r>
            <a:endParaRPr b="0" lang="en-US" sz="2600" spc="-1" strike="noStrike">
              <a:solidFill>
                <a:srgbClr val="ffffff"/>
              </a:solidFill>
              <a:latin typeface="Arial"/>
            </a:endParaRPr>
          </a:p>
          <a:p>
            <a:pPr marL="343080" indent="-343080" algn="just">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стандарт жобасы келісуге таратылған ұйымдар тізімі.</a:t>
            </a:r>
            <a:endParaRPr b="0" lang="en-US" sz="2600" spc="-1" strike="noStrike">
              <a:solidFill>
                <a:srgbClr val="ffffff"/>
              </a:solidFill>
              <a:latin typeface="Arial"/>
            </a:endParaRPr>
          </a:p>
          <a:p>
            <a:pPr marL="343080" indent="-343080" algn="just">
              <a:lnSpc>
                <a:spcPct val="10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Объект 2"/>
          <p:cNvSpPr/>
          <p:nvPr/>
        </p:nvSpPr>
        <p:spPr>
          <a:xfrm>
            <a:off x="539640" y="260280"/>
            <a:ext cx="8007480" cy="93672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66"/>
                </a:solidFill>
                <a:latin typeface="Times New Roman"/>
              </a:rPr>
              <a:t>Бекітуге жіберілген стандарт жобасына келесі құжаттар бір данада қосылуы керек:</a:t>
            </a:r>
            <a:r>
              <a:rPr b="0" lang="ru-RU" sz="3200" spc="-1" strike="noStrike">
                <a:solidFill>
                  <a:srgbClr val="ffffff"/>
                </a:solidFill>
                <a:latin typeface="Arial"/>
              </a:rPr>
              <a:t>  </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
          <p:cNvSpPr txBox="1"/>
          <p:nvPr/>
        </p:nvSpPr>
        <p:spPr>
          <a:xfrm>
            <a:off x="611280" y="981000"/>
            <a:ext cx="8007120" cy="4680000"/>
          </a:xfrm>
          <a:prstGeom prst="rect">
            <a:avLst/>
          </a:prstGeom>
          <a:noFill/>
          <a:ln w="0">
            <a:noFill/>
          </a:ln>
        </p:spPr>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Қазақстан Республикасының мемлекеттік стандарттары өнімге, үрдіске, қызметке және көпмәрте қайта өделуі немесе қолданылуы мүмкін, салааралық мәнге ие ұйымдастыру-әдістемелік және жалпытехникалық талаптарға жасалады.</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
          <p:cNvSpPr txBox="1"/>
          <p:nvPr/>
        </p:nvSpPr>
        <p:spPr>
          <a:xfrm>
            <a:off x="250920" y="980640"/>
            <a:ext cx="8604000" cy="453564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Стандарт жобасы негізгі қызығушы ұйымдардың өкілдерінің қатысуымен алқалық (коллегиально) қарастырылады. Стандарт жобасы қарастырылғаннан кейін бекітіледі және Қазақстан Республикасының мемлекеттік стандарттау жүйесінің реестіріне тіркеледі. Әрекетке стандарттау, метрология және сертификаттау комитетінің бұйрығымен енгізіледі.</a:t>
            </a:r>
            <a:r>
              <a:rPr b="1" lang="ru-RU"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
          <p:cNvSpPr txBox="1"/>
          <p:nvPr/>
        </p:nvSpPr>
        <p:spPr>
          <a:xfrm>
            <a:off x="250920" y="980640"/>
            <a:ext cx="8604000" cy="554364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тандарттың енгізу мерзімі оны енгізу бойынша жұмыстарды жүргізу үшін қажетті уақыттың есебімен орнатылады. Бекітілген және тіркелген стандарттарды басып шығару бойынша ұйымдастыру, олар туралы ақпараттарды дайындау, тарату, тексеру, жаңалау (өзгертулер енгізу, қайта қарау) стандарттарды тоқтату стандарттау, метрология және сертификаттау жөніндегі комитетке жүктелген. </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
          <p:cNvSpPr txBox="1"/>
          <p:nvPr/>
        </p:nvSpPr>
        <p:spPr>
          <a:xfrm>
            <a:off x="324000" y="1052640"/>
            <a:ext cx="8424720" cy="4681440"/>
          </a:xfrm>
          <a:prstGeom prst="rect">
            <a:avLst/>
          </a:prstGeom>
          <a:noFill/>
          <a:ln w="0">
            <a:noFill/>
          </a:ln>
        </p:spPr>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тандарттарды тексеру, қайта қарау және тоқтату экономиканың, халықтың және халықаралық талаптардың қажеттіліктеріне сәйкестігін қамтамасыз ету мақсатында жүргізіледі. Стандартты текесеруді Қазақстан Республиканың мемлекеттік стандарттау жоспары бойынша 5 жылда бір реттен жиі емес жасаушы-ұйым жүргізеді.</a:t>
            </a:r>
            <a:r>
              <a:rPr b="0" lang="ru-RU"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
          <p:cNvSpPr txBox="1"/>
          <p:nvPr/>
        </p:nvSpPr>
        <p:spPr>
          <a:xfrm>
            <a:off x="324000" y="1052640"/>
            <a:ext cx="8424720" cy="475272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Тексеру қорытындысы бойынша акт құрылады, онда стандарттың әрекет ету мерзімін ұзарту, өзгерістер енгізу, қайта қарау және тоқтату туралы жасаушы-ұйымның ұсыныстары болады. Стандартты тексерудің келісілген актісі екі данада стандарттау, метрология және сертификаттау жөніндегі комитетке жіберілед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
          <p:cNvSpPr txBox="1"/>
          <p:nvPr/>
        </p:nvSpPr>
        <p:spPr>
          <a:xfrm>
            <a:off x="324000" y="475920"/>
            <a:ext cx="8496000" cy="5592600"/>
          </a:xfrm>
          <a:prstGeom prst="rect">
            <a:avLst/>
          </a:prstGeom>
          <a:noFill/>
          <a:ln w="0">
            <a:noFill/>
          </a:ln>
        </p:spPr>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200" spc="-1" strike="noStrike">
                <a:solidFill>
                  <a:srgbClr val="ffffff"/>
                </a:solidFill>
                <a:latin typeface="Times New Roman"/>
              </a:rPr>
              <a:t>Жасаушы-ұйым келіп түскен ұсыныстар есебі бойынша стандарттау, метрология және сертификаттау жөніндегі комитетке екі данада мемлекеттік және орыс тілінде бекітуге және мемлекеттік тіркеуге, қайта қарауға немесе тоқтатуға стандарт жобасын жібереді. Стандартқа өзгерістер енгізу, соның ішінде стандарттың әрекет мерзімін ұзарту, шектеу, алып тастау және тоқтату өзгертпе түрінде дайындала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
          <p:cNvSpPr txBox="1"/>
          <p:nvPr/>
        </p:nvSpPr>
        <p:spPr>
          <a:xfrm>
            <a:off x="179280" y="333360"/>
            <a:ext cx="8785440" cy="612000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тандарты өзгерту жобасымен бірге стандарттың өзгерту жобасының келісілуін растайтын тұпнұсқа құжаттар және түсіндірме жазбасы көрсетілуі керек. Бекітілгеннен кейін және стандарттау, метроогия және сертификаттау жөніндегі комитеттінің қаулысымен әрекетке енгізілгеннен кейін, өзгерту мемлекеттік стандарттардың мемлекеттік реестіріне кіргізіліп, оған тәртіптік нөмірі беріледі. Өзгертуді әрекетке енгізу күні оны бекіту күнінен алты айдан ерте болмауы тиіс.</a:t>
            </a:r>
            <a:r>
              <a:rPr b="0" lang="ru-RU"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
          <p:cNvSpPr txBox="1"/>
          <p:nvPr/>
        </p:nvSpPr>
        <p:spPr>
          <a:xfrm>
            <a:off x="179280" y="189000"/>
            <a:ext cx="8785440" cy="6408720"/>
          </a:xfrm>
          <a:prstGeom prst="rect">
            <a:avLst/>
          </a:prstGeom>
          <a:noFill/>
          <a:ln w="0">
            <a:noFill/>
          </a:ln>
        </p:spPr>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200" spc="-1" strike="noStrike">
                <a:solidFill>
                  <a:srgbClr val="ffffff"/>
                </a:solidFill>
                <a:latin typeface="Times New Roman"/>
              </a:rPr>
              <a:t>Өзгертулерді бекіту туралы және өзгерту мәтіні туралы ақпарат стандартттау, метрология және сертификаттау жөніндегі комитетпен ай сайын шығарылатын «Қазақстан Республикасының мемлекеттік стандарттары» ақпараттық сілтемеде жарияланады. Стандартты қайта қарау кезінде жаңа стандарт жасалады. Осы жағдайда алдын әрекет еткен стандарт тоқтатылып, ал жаңа стандартта қандай стандарттың орнына жасалғаны көрсетіледі. Жаңа стандартқа ескі стандарттың белгіленуі соңғы екі саны ауыстырылып беріледі. </a:t>
            </a:r>
            <a:endParaRPr b="0"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
          <p:cNvSpPr txBox="1"/>
          <p:nvPr/>
        </p:nvSpPr>
        <p:spPr>
          <a:xfrm>
            <a:off x="394920" y="188640"/>
            <a:ext cx="8458200" cy="6119640"/>
          </a:xfrm>
          <a:prstGeom prst="rect">
            <a:avLst/>
          </a:prstGeom>
          <a:noFill/>
          <a:ln w="0">
            <a:noFill/>
          </a:ln>
        </p:spPr>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rPr>
              <a:t>Стандартты тоқтатуды аталған стандартпен өңдірілген өнім шығару тоқтатылған кезде, аталған стандарттың орнына стандарттау бойынша басқа нормативтік құжатжасалған кезде және халықаралық стандартты тікелей қолданған жағдайда жүргізіледі. Стандартты тоқтату туралы ақпарат, стандартты тоқтату күніне дейін үш айдан кеш емес уақытта стандартттау, метрология және сертификаттау жөніндегі комитетпен ай сайын шығарылатын «Қазақстан Республикасының мемлекеттік стандарттары» ақпараттық сілтемеде жарияланад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Объект 2"/>
          <p:cNvSpPr/>
          <p:nvPr/>
        </p:nvSpPr>
        <p:spPr>
          <a:xfrm>
            <a:off x="539640" y="260280"/>
            <a:ext cx="8007480" cy="9367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66"/>
                </a:solidFill>
                <a:latin typeface="Arial"/>
              </a:rPr>
              <a:t>Мемелкеттік стандарттау объектілеріне жатады:</a:t>
            </a:r>
            <a:r>
              <a:rPr b="0" lang="ru-RU" sz="3200" spc="-1" strike="noStrike">
                <a:solidFill>
                  <a:srgbClr val="ffff66"/>
                </a:solidFill>
                <a:latin typeface="Arial"/>
              </a:rPr>
              <a:t> </a:t>
            </a:r>
            <a:endParaRPr b="0" lang="en-US" sz="3200" spc="-1" strike="noStrike">
              <a:solidFill>
                <a:srgbClr val="ffffff"/>
              </a:solidFill>
              <a:latin typeface="Constantia"/>
            </a:endParaRPr>
          </a:p>
        </p:txBody>
      </p:sp>
      <p:sp>
        <p:nvSpPr>
          <p:cNvPr id="100" name="Объект 2"/>
          <p:cNvSpPr/>
          <p:nvPr/>
        </p:nvSpPr>
        <p:spPr>
          <a:xfrm>
            <a:off x="0" y="1413000"/>
            <a:ext cx="8964720" cy="4824360"/>
          </a:xfrm>
          <a:prstGeom prst="rect">
            <a:avLst/>
          </a:prstGeom>
          <a:noFill/>
          <a:ln w="0">
            <a:noFill/>
          </a:ln>
        </p:spPr>
        <p:style>
          <a:lnRef idx="0"/>
          <a:fillRef idx="0"/>
          <a:effectRef idx="0"/>
          <a:fontRef idx="minor"/>
        </p:style>
        <p:txBody>
          <a:bodyPr lIns="90000" rIns="90000" tIns="46800" bIns="46800" anchor="t">
            <a:normAutofit fontScale="99000"/>
          </a:bodyPr>
          <a:p>
            <a:pPr marL="270000" indent="-270000" algn="just">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ұйымдастыру-әдістемелік және жалпытехникалық объектілер</a:t>
            </a:r>
            <a:r>
              <a:rPr b="1" lang="ru-RU" sz="2400" spc="-1" strike="noStrike">
                <a:solidFill>
                  <a:srgbClr val="ffffff"/>
                </a:solidFill>
                <a:latin typeface="Times New Roman"/>
              </a:rPr>
              <a:t>;</a:t>
            </a:r>
            <a:endParaRPr b="0" lang="en-US" sz="2400" spc="-1" strike="noStrike">
              <a:solidFill>
                <a:srgbClr val="ffffff"/>
              </a:solidFill>
              <a:latin typeface="Constantia"/>
            </a:endParaRPr>
          </a:p>
          <a:p>
            <a:pPr marL="270000" indent="-270000" algn="just">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үлкен халықшаруашылығы кешендері;</a:t>
            </a:r>
            <a:endParaRPr b="0" lang="en-US" sz="2400" spc="-1" strike="noStrike">
              <a:solidFill>
                <a:srgbClr val="ffffff"/>
              </a:solidFill>
              <a:latin typeface="Constantia"/>
            </a:endParaRPr>
          </a:p>
          <a:p>
            <a:pPr marL="270000" indent="-270000" algn="just">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rPr>
              <a:t>мемлекеттік ғылыми-техникалық және әлеуметтік-экономикалық бағдарламалар мен жобалар объектілері;</a:t>
            </a:r>
            <a:r>
              <a:rPr b="1" lang="ru-RU" sz="2400" spc="-1" strike="noStrike">
                <a:solidFill>
                  <a:srgbClr val="ffffff"/>
                </a:solidFill>
                <a:latin typeface="Times New Roman"/>
              </a:rPr>
              <a:t> </a:t>
            </a:r>
            <a:endParaRPr b="0" lang="en-US" sz="2400" spc="-1" strike="noStrike">
              <a:solidFill>
                <a:srgbClr val="ffffff"/>
              </a:solidFill>
              <a:latin typeface="Constantia"/>
            </a:endParaRPr>
          </a:p>
          <a:p>
            <a:pPr marL="270000" indent="-270000" algn="just">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ең қолданылатын өнімдер, соның ішінде салаарлық;</a:t>
            </a:r>
            <a:endParaRPr b="0" lang="en-US" sz="2400" spc="-1" strike="noStrike">
              <a:solidFill>
                <a:srgbClr val="ffffff"/>
              </a:solidFill>
              <a:latin typeface="Constantia"/>
            </a:endParaRPr>
          </a:p>
          <a:p>
            <a:pPr marL="270000" indent="-270000" algn="just">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ҚР өнімдері мен технологияларының бәсекеге қабілеттілігін қамтамасыз ететін ғылым мен техниканың жетістіктері;</a:t>
            </a:r>
            <a:endParaRPr b="0" lang="en-US" sz="2400" spc="-1" strike="noStrike">
              <a:solidFill>
                <a:srgbClr val="ffffff"/>
              </a:solidFill>
              <a:latin typeface="Constantia"/>
            </a:endParaRPr>
          </a:p>
          <a:p>
            <a:pPr marL="270000" indent="-270000" algn="just">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ішкі қажеттілікті қанағаттандыру үшін ҚР өңдірілетін өнімдер, сонымен қатар екіжақты міндеттер бойынша басқа мемлекеттерге жеткізілетін өнімдер және көрсілетін қызметтер;</a:t>
            </a:r>
            <a:endParaRPr b="0" lang="en-US" sz="2400" spc="-1" strike="noStrike">
              <a:solidFill>
                <a:srgbClr val="ffffff"/>
              </a:solidFill>
              <a:latin typeface="Constantia"/>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
          <p:cNvSpPr txBox="1"/>
          <p:nvPr/>
        </p:nvSpPr>
        <p:spPr>
          <a:xfrm>
            <a:off x="26640" y="1484280"/>
            <a:ext cx="8893080" cy="47102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қоршаған ортаны қорғауды және адам өмірі мен денсаулығын қамтамасыз ететін өнім, үрдіс және қызмет сапасына қойлатын міндетті талаптар;</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өнімнің бірлесуі және өзара алмасуы бойынша міндетті талаптар;</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өнімнің, үрдістің және қызметтің сапасына қойлатын талаптарды міндетті бақылау әдістері;</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бұйымдардың типтік құрылымдары және параметрлік қатарлары;</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Объект 2"/>
          <p:cNvSpPr/>
          <p:nvPr/>
        </p:nvSpPr>
        <p:spPr>
          <a:xfrm>
            <a:off x="539640" y="260280"/>
            <a:ext cx="8007480" cy="9367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66"/>
                </a:solidFill>
                <a:latin typeface="Times New Roman"/>
              </a:rPr>
              <a:t>Қазақстан Республикасының мемлекеттік стандарттары тұрады:</a:t>
            </a:r>
            <a:r>
              <a:rPr b="0" lang="ru-RU" sz="3200" spc="-1" strike="noStrike">
                <a:solidFill>
                  <a:srgbClr val="ffffff"/>
                </a:solidFill>
                <a:latin typeface="Arial"/>
              </a:rPr>
              <a:t> </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txBox="1"/>
          <p:nvPr/>
        </p:nvSpPr>
        <p:spPr>
          <a:xfrm>
            <a:off x="179280" y="404640"/>
            <a:ext cx="8686800" cy="59486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өнімнің негізгі тұтынушылық қасиеттері, өнімді орауға, таңбалауға, трмнспорттауға, сақтауға және  жоюға талаптар;</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қызмет көрсетуді және өнімді жасауда, өңдіруде, пайдалануда техникалық бірдейлікті қамтамасыз ететін ережелер, техникалық құжаттарды дайындау ережелері, өнімнің сапасын қамтамасыз етудің жалпы талаптары, барлық ресурстарды дұрыс қолдану және сақтау, терминдер, аныұтамалар және белгілеулер, метрологиялық және басқа жалпытехникалық ережелер. </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
          <p:cNvSpPr txBox="1"/>
          <p:nvPr/>
        </p:nvSpPr>
        <p:spPr>
          <a:xfrm>
            <a:off x="250560" y="1196640"/>
            <a:ext cx="8677080" cy="4321080"/>
          </a:xfrm>
          <a:prstGeom prst="rect">
            <a:avLst/>
          </a:prstGeom>
          <a:noFill/>
          <a:ln w="0">
            <a:noFill/>
          </a:ln>
        </p:spPr>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200" spc="-1" strike="noStrike">
                <a:solidFill>
                  <a:srgbClr val="ffffff"/>
                </a:solidFill>
                <a:latin typeface="Times New Roman"/>
              </a:rPr>
              <a:t>Мемлекеттік стандарттарда көрсетілген талаптар Қазақстан Республикасының заңнамаларына, халықаралық және мемлекетаралық стандарттардың талаптарына қайшы келмеу кере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Мемлекеттік стандарттарда стандарттау объектілеріне міндетті және ұсынысты талаптар болады.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
          <p:cNvSpPr txBox="1"/>
          <p:nvPr/>
        </p:nvSpPr>
        <p:spPr>
          <a:xfrm>
            <a:off x="250560" y="333000"/>
            <a:ext cx="8677080" cy="604836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тандартта орнатылған </a:t>
            </a:r>
            <a:r>
              <a:rPr b="1" lang="ru-RU" sz="3200" spc="-1" strike="noStrike">
                <a:solidFill>
                  <a:srgbClr val="ffff66"/>
                </a:solidFill>
                <a:latin typeface="Times New Roman"/>
              </a:rPr>
              <a:t>міндетті талаптарға</a:t>
            </a:r>
            <a:r>
              <a:rPr b="1" lang="ru-RU" sz="3200" spc="-1" strike="noStrike">
                <a:solidFill>
                  <a:srgbClr val="ffffff"/>
                </a:solidFill>
                <a:latin typeface="Times New Roman"/>
              </a:rPr>
              <a:t> – өнімнің, үрдістің және қызметтің қоршаған ортаны қорғау және адам өмірі мен денсаулығын қамтамасыз ету талаптары, техникалық және ақпараттық үйлесімділікті қамтамасыз ету талаптары, өнімнің өзараалмасуының, бірдей бақылау әдістерінің және таңбалаудың талаптары жатады. </a:t>
            </a:r>
            <a:r>
              <a:rPr b="1" lang="kk-KZ" sz="3200" spc="-1" strike="noStrike">
                <a:solidFill>
                  <a:srgbClr val="ffffff"/>
                </a:solidFill>
                <a:latin typeface="Times New Roman"/>
              </a:rPr>
              <a:t>Стандарттың міндетті талаптары мемлкеттік басқару органдарымен, меншік түріне қарамастан жеке және заңды тұлғалармен сақталуы тиіс</a:t>
            </a:r>
            <a:r>
              <a:rPr b="0" lang="ru-RU" sz="3200" spc="-1" strike="noStrike">
                <a:solidFill>
                  <a:srgbClr val="ffffff"/>
                </a:solidFill>
                <a:latin typeface="Times New Roman"/>
              </a:rPr>
              <a:t>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
          <p:cNvSpPr txBox="1"/>
          <p:nvPr/>
        </p:nvSpPr>
        <p:spPr>
          <a:xfrm>
            <a:off x="250560" y="764640"/>
            <a:ext cx="8677080" cy="446436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Стандартта өнімге, үрдіске және қызметке қойылатын </a:t>
            </a:r>
            <a:r>
              <a:rPr b="1" lang="kk-KZ" sz="3200" spc="-1" strike="noStrike">
                <a:solidFill>
                  <a:srgbClr val="ffff66"/>
                </a:solidFill>
                <a:latin typeface="Times New Roman"/>
              </a:rPr>
              <a:t>ұсынысты талаптар</a:t>
            </a:r>
            <a:r>
              <a:rPr b="1" lang="kk-KZ" sz="3200" spc="-1" strike="noStrike">
                <a:solidFill>
                  <a:srgbClr val="ffffff"/>
                </a:solidFill>
                <a:latin typeface="Times New Roman"/>
              </a:rPr>
              <a:t> өнімді дайындаушының, үрдісті және қызметті орындаушының техникалық құжаттарымен немесе тапсырыс берушінің келісімшартында көрсетілген болса, онда олар жеке және заңды тұлғалармен міндетті орындалуға жата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txBox="1"/>
          <p:nvPr/>
        </p:nvSpPr>
        <p:spPr>
          <a:xfrm>
            <a:off x="323640" y="907560"/>
            <a:ext cx="8507160" cy="487044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Қазақстан Республикасынң мемлекеттік стандарттарын мемлекеттік басқару органдары, заңды тұлғалар және стандарттау жөніндегі комитетер жасайды. Стандарттарды жасауға өнімді дайындаушылар мен тұтынушылардың, ғылыми-техникалық және инженерлік қоғамдардың, тұтынушылар қоғамдарының өілдері және ғалымдар қатыса ала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15:57:08Z</dcterms:created>
  <dc:creator>Admin</dc:creator>
  <dc:description/>
  <dc:language>en-US</dc:language>
  <cp:lastModifiedBy>User</cp:lastModifiedBy>
  <dcterms:modified xsi:type="dcterms:W3CDTF">2012-05-10T05:17:46Z</dcterms:modified>
  <cp:revision>8</cp:revision>
  <dc:subject/>
  <dc:title>Қазақстан Республикасының мемлекеттік стандарттары .</dc:title>
</cp:coreProperties>
</file>